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E5AA-6907-4936-8D87-AF00B02AC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3981-7559-4E1B-BE33-5E773AED1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B78B-4156-4277-9099-33AFF824F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0487-B191-4404-BE01-E90BBC4ED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1DEB-DB45-4B5B-9FE7-141FF1E3BA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1952-73B2-434C-9BD7-FA6BB93638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7F1D-7473-4307-B5AD-967990230C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A3C3-7F70-45F4-A99C-4798F85A0E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932A-D871-496F-A642-66A9641FA7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699A-9F61-4436-ADC8-E221052656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59E6-184A-4CE1-BA80-186D593BA6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3391-D91C-481B-80DC-9E425FC04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0D51-786C-4B4E-9AB5-EC00CDAC4B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8D5A-BC80-4E93-A5D7-F122EA8FA0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E833-FE0A-47C8-8641-4239EE25E6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1496-7AAD-42EA-B24B-154C75078B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EC97-E456-40EE-B809-9D7BF9819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C2BC-DD8C-497B-9A56-9F6010745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046F-F294-481D-9B13-AFB3DDD69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7409-1928-4769-98AD-88902596C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AA12-B57D-486B-B242-0733C0920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498D-C81A-43D3-A975-AF301AEB1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AA74-5901-4CBE-B806-90CF2E53D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042E-2E21-4D7E-A3AA-8330708BA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5DDB-1817-4409-8BFE-D8DA17B660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40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44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69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2"/>
          </p:nvPr>
        </p:nvSpPr>
        <p:spPr>
          <a:xfrm>
            <a:off x="7480080" y="6243480"/>
            <a:ext cx="2761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1ADA-DA5B-41E6-B76A-F93ABD8C8B1E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112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8108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3828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dcc"/>
                </a:solidFill>
                <a:uFillTx/>
                <a:latin typeface="Arial Bold"/>
                <a:ea typeface="Arial Bold"/>
              </a:rPr>
              <a:t>Pax Mongo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174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1200’s and 1300s: Mongols pushed peace and order across Eur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74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rs, travelers and missionaries enjoyed safety along the Silk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7400" indent="-577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Trade between Europe and Asia went up but disease sp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64008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167652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dcc"/>
                </a:solidFill>
                <a:uFillTx/>
                <a:latin typeface="Arial"/>
              </a:rPr>
              <a:t>Kublai K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1260: named Great Khan; grandson of Geng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He reserved gov’t jobs for Mongols.  The Chinese resented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94520" y="0"/>
            <a:ext cx="2949480" cy="327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57200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Khan attempted to invade Japan but was defeated after 5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cal Wind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h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11720" y="1473120"/>
            <a:ext cx="3409920" cy="207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14840" y="3352680"/>
            <a:ext cx="54291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Khan ada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blai Khan adapts to Chines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d90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Used Chinese advisors but gave high positions to Mong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d90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Expands trade over Silk 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50496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End of the Mong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240" y="166320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ath of Khan, over time the Mongols grew weak and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Mongols could not agree on new ru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Rebellions started against Mongols and fami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9640" y="1295280"/>
            <a:ext cx="31971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ussellt</dc:creator>
  <dc:description/>
  <dc:language>en-US</dc:language>
  <cp:lastModifiedBy/>
  <cp:revision>0</cp:revision>
  <dc:subject/>
  <dc:title>The Mongols</dc:title>
</cp:coreProperties>
</file>